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FEF-8A1C-4551-845C-69E71486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FC3-16CC-4F7F-9117-48EA4A85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7237F-E699-429E-933D-4D99ED2C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A1D12-32FD-43A7-9366-B8C23435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31A1E-56CC-4D97-9937-B4618DA8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F8250-B3C7-4B41-9F5F-7E9E39B8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97BA8-EDB8-4046-AB3E-8A8F91CB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6FA1E-35B8-46C5-895A-07167ADA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42A3A-89E2-4D16-924F-368A91BE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5E8DF-F8AC-41C4-9406-CCE09934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B23DF-A8BC-471C-BB2A-D71C7F96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B4CD2-CB1A-4021-8D20-283F31C4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08D-74F6-4385-9C81-195A3CC5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F2EF77-B6BB-45AE-A8D6-85A7786A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F48C9-0F2A-4E82-BE79-986777CA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18F473-FAD1-4985-B64F-7756E572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E134E-AD1D-4854-8D1B-FE1F5C90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AD102-4292-4FC9-8A3E-C9A4A9FD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749E0C-BF00-43D0-B9B1-D79B4CA8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B7FD0-0384-40E0-B8CD-9AB7032D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2F1B9-F2CF-4A92-BA10-B7CF71A2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55ABD-C640-4CE7-BC00-E55A8FE7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639CF5-2E45-49D4-957F-4C79D910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3DE-561A-443A-A340-21557EED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95E20-4547-42FB-B9C5-D3BB66CE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30CB-21A4-4D01-B689-011324C2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F07E-4307-420D-BFAC-E661416F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35CA-CA6E-4841-B7AC-30E143E2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B9A4-CA16-4366-ADBA-0ACF9D90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FC6B-AB18-42C3-BAD2-0D905DF0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6105-A2C9-45E1-8674-CB724539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EE77-8FC0-49B7-9014-CD54745F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25A9-A2B8-4F4B-AFE7-A81240B5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8617-0DBD-4F81-A4D4-31854B90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C3B0-B411-4468-A0D5-686A8037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8F20-C35B-4D5C-A4D8-91ACB6E7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7488-D977-4B84-A904-CB695869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C83E-0160-48F8-A4F3-17EB78B8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D9D26-6A00-49CA-BB6C-4552216A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E5E6-9370-4492-BE03-8A1133B6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B014-5DA3-420B-AC52-9C316793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6387-7E58-45C9-AA67-B0C022A1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7D755-1029-4F83-A8F2-BC5B06C9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65E-96FA-4867-BAC3-25191FB1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0810D-4015-4CA0-AE4B-63992C1E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17F3B-8C72-44F9-A355-47183635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54864-0B09-4E0B-89DE-7AA9EB73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F5516-763C-49FD-8C07-31865ADC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3918-CD66-4BD9-B31A-C1E05BB0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8BAA1-331B-48FB-A0A4-057497BE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B21A7-3B3E-48E9-AE98-69A30157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A81F-2A84-4967-8D6A-9FB31C29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14625-E391-4CC5-8AD2-EEBA864A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82E3E-8A6E-4843-AF44-87E3D5A2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56C-3F9A-42DC-BC3C-7DF7AAA4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5DA29-31C8-43AC-8D6C-3CA0F7F5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0EE33-FA00-47F2-995B-85E8025D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DE84F-8B59-4606-A6FA-DBA0FB22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F8F3E-27B0-411F-95FF-25DD3372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26CCF-B447-4455-AB14-87FC4734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FC669-CE0F-40B9-9818-A857BFBB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0A68E-FD5D-4D37-835A-87B69AE3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F13AA-3B44-4281-8163-CE697849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C6B3A-F9A5-4281-A77F-7F0AF256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5301C-7D0E-454B-9817-11CA9E77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62E-3A87-4987-9CBD-91943F40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2653F-1B68-40F1-9819-235B9837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D9694-954E-4611-9B92-0881771F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4D8B3-686F-4B54-9C00-4775CBF0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4B98E-E39A-4256-B76A-7421AD8C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29985-50F8-42C8-B733-7DB1CB8E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28531-F10A-440E-9702-06FAEA87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BB4A1-7115-4294-9282-B1772F11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8606E-98F9-418C-ACE2-6CBD608A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E3DAC-4607-4566-AD83-043F93CA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30247-371C-4A0F-943D-13875FBA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FC7-E7AF-458E-B7B2-7410C46F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025FE-59B5-4DCF-8D92-B260308A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9F130-C0A6-4ADA-BD39-E021EE0F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EAC81-7E0A-473D-8D04-8F552D84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80D7E-4842-4B04-8292-52205734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07EA5-2E50-4B65-BE05-60CE6FEE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26CE1-4E0D-40FC-9569-BF227662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3B035-C0EC-44E0-AAAD-552DC495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214D3-FF3C-47F6-8F31-A82BC6F5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5A846-C716-4D70-820F-F9BC6FF7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F4B2D-C97F-41D2-B2D1-627C22BC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EA5-560C-48CE-9326-0769150C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A8A51-687A-4F34-A2AA-17A9C6E0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0B8D5-E733-4535-83DA-E9EE7B69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71AA2-E6BA-4DF1-BAF6-A8630047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CDFE2-B869-4A20-8638-A4CB6CA7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DC51C-1CBC-4C93-88F6-645D9665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7C7FC-BCB2-4B51-B49D-9D0BEA9E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A62BC-D9E6-44AD-BF8E-1EFBE92E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82669-8C86-45B6-BF96-AC3C767A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D3717-F0F8-4BA4-A128-DEB98044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4B0B9-36DD-4791-9F8F-6C4B329C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B8D-D3F5-4647-B1AA-8902A2C3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DB0C2-06E3-4A1F-9AC5-7C39BD3F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71CB7-85F4-4C9F-BA20-A360E608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70420-B6EA-47AC-B1D5-9138C48E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9CEC7-B780-45BE-B8F2-48EB91B2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56398-6387-447D-9C27-B58BAB56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60BA85-D8FA-4FB3-ACD7-B8269868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355D15-077D-4F9F-A025-16AEA524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A7DB96-4EC1-478C-BB40-CD9D5DAF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A6A958-4330-4E24-9429-38E3A842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A3AE36-F1AA-4BC3-BED2-5D9F01C8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DC2-9064-4792-99C8-297B636E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3BCCC2-DA29-495F-ABEA-908F3319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F39AC8-47CE-411F-BBCB-6163D0F8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CC1C12-E144-47F7-8E2A-6AD1F4B8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3B416E-3322-4B3B-BA6E-833C1359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E60AE5-E60C-4676-BFE1-A18AAA16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0ED00E-4175-4ABA-9B90-1286B1D5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69449F-A6C8-4F73-AA57-3CB1931A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732BF-5BBD-4C81-B1FA-DECD5FDE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00DAC-9467-4283-BED2-57860480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01AF79-7952-46A7-821C-C136A9AF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1C08-0015-4286-A70B-93D9373EEBC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FCCD-5084-46D6-B27B-A89D9E2510B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dt" idx="2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3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C2C7-5E0D-4B29-99C4-FFA819D67AE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B214-EA2B-49D2-BDD9-17DF18BBCF2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3F55-3044-4532-A01C-C3C8484E813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E095-8C3E-423F-AB2C-A3A13E254200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451F-E4DF-4193-B652-5B2C6B95448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C938-DB18-43E5-9F71-4E279B9EB7E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Num" idx="2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CDB2-2A76-42B6-A643-917204DEC96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dt" idx="2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2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7D42-E129-4EC9-90AC-B12D8ED28BD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dt" idx="2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2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max.co.za/feel/body/pics/chromium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nteriorinfo.ru/upload/images/gallery/1188195509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oborud.info/product/icon/2622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schoolshop.ru/d/63973/d/2099.jpg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www.wellstreetchurch.org.uk/content/pages/uploaded_images/105.jpg" TargetMode="External"/><Relationship Id="rId9" Type="http://schemas.openxmlformats.org/officeDocument/2006/relationships/image" Target="../media/image11.jpeg"/><Relationship Id="rId10" Type="http://schemas.openxmlformats.org/officeDocument/2006/relationships/hyperlink" Target="http://www.tomshw.it/guides/digitrends/digitrends/20090629/images/,8-V-215455-3.jpg" TargetMode="External"/><Relationship Id="rId11" Type="http://schemas.openxmlformats.org/officeDocument/2006/relationships/image" Target="../media/image12.jpeg"/><Relationship Id="rId12" Type="http://schemas.openxmlformats.org/officeDocument/2006/relationships/hyperlink" Target="http://www.aquakeeper.ru/images/data/2875.jpg" TargetMode="External"/><Relationship Id="rId13" Type="http://schemas.openxmlformats.org/officeDocument/2006/relationships/image" Target="../media/image13.jpeg"/><Relationship Id="rId14" Type="http://schemas.openxmlformats.org/officeDocument/2006/relationships/hyperlink" Target="http://news.ferra.ru/images/117/117589.jpg" TargetMode="External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-2006-11.photosight.ru/26/1785412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sracity.com/isra/images/110/juice07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hyperlink" Target="http://ed3.ru/vlogenie/05/miaso1.jpg" TargetMode="External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6" descr=""/>
          <p:cNvPicPr/>
          <p:nvPr/>
        </p:nvPicPr>
        <p:blipFill>
          <a:blip r:embed="rId1"/>
          <a:stretch/>
        </p:blipFill>
        <p:spPr>
          <a:xfrm>
            <a:off x="281160" y="858960"/>
            <a:ext cx="8210520" cy="35542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743200" y="4071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Выполнил: Симанович Вячеслав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Organization Chart 7"/>
          <p:cNvGrpSpPr/>
          <p:nvPr/>
        </p:nvGrpSpPr>
        <p:grpSpPr>
          <a:xfrm>
            <a:off x="785880" y="1500120"/>
            <a:ext cx="7829280" cy="4312440"/>
            <a:chOff x="785880" y="1500120"/>
            <a:chExt cx="7829280" cy="4312440"/>
          </a:xfrm>
        </p:grpSpPr>
        <p:cxnSp>
          <p:nvCxnSpPr>
            <p:cNvPr id="538" name="_s1028"/>
            <p:cNvCxnSpPr>
              <a:stCxn id="539" idx="0"/>
              <a:endCxn id="540" idx="2"/>
            </p:cNvCxnSpPr>
            <p:nvPr/>
          </p:nvCxnSpPr>
          <p:spPr>
            <a:xfrm flipV="1" rot="16200000">
              <a:off x="5881680" y="2043720"/>
              <a:ext cx="862560" cy="3224160"/>
            </a:xfrm>
            <a:prstGeom prst="bentConnector3">
              <a:avLst>
                <a:gd name="adj1" fmla="val 273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1" name="_s1029"/>
            <p:cNvCxnSpPr>
              <a:stCxn id="542" idx="0"/>
              <a:endCxn id="540" idx="2"/>
            </p:cNvCxnSpPr>
            <p:nvPr/>
          </p:nvCxnSpPr>
          <p:spPr>
            <a:xfrm flipV="1" rot="16200000">
              <a:off x="5075280" y="2850120"/>
              <a:ext cx="862560" cy="1611720"/>
            </a:xfrm>
            <a:prstGeom prst="bentConnector3">
              <a:avLst>
                <a:gd name="adj1" fmla="val 273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3" name="_s1030"/>
            <p:cNvCxnSpPr>
              <a:stCxn id="544" idx="0"/>
              <a:endCxn id="540" idx="2"/>
            </p:cNvCxnSpPr>
            <p:nvPr/>
          </p:nvCxnSpPr>
          <p:spPr>
            <a:xfrm flipV="1">
              <a:off x="4700880" y="3224880"/>
              <a:ext cx="1800" cy="862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5" name="_s1031"/>
            <p:cNvCxnSpPr>
              <a:stCxn id="546" idx="0"/>
              <a:endCxn id="540" idx="2"/>
            </p:cNvCxnSpPr>
            <p:nvPr/>
          </p:nvCxnSpPr>
          <p:spPr>
            <a:xfrm flipH="1" flipV="1" rot="5400000">
              <a:off x="3463560" y="2849760"/>
              <a:ext cx="862560" cy="1612800"/>
            </a:xfrm>
            <a:prstGeom prst="bentConnector3">
              <a:avLst>
                <a:gd name="adj1" fmla="val 273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7" name="_s1032"/>
            <p:cNvCxnSpPr>
              <a:stCxn id="548" idx="0"/>
              <a:endCxn id="540" idx="2"/>
            </p:cNvCxnSpPr>
            <p:nvPr/>
          </p:nvCxnSpPr>
          <p:spPr>
            <a:xfrm flipH="1" flipV="1" rot="5400000">
              <a:off x="2658240" y="2044080"/>
              <a:ext cx="862560" cy="3224160"/>
            </a:xfrm>
            <a:prstGeom prst="bentConnector3">
              <a:avLst>
                <a:gd name="adj1" fmla="val 2734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9" name=""/>
            <p:cNvSpPr txBox="1"/>
            <p:nvPr/>
          </p:nvSpPr>
          <p:spPr>
            <a:xfrm>
              <a:off x="4009680" y="1500120"/>
              <a:ext cx="1382040" cy="1725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785880" y="4087440"/>
              <a:ext cx="1382400" cy="1725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В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металлург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2398320" y="4087440"/>
              <a:ext cx="1380600" cy="1725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химическо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ромыш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енно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>
              <a:off x="4009680" y="4087440"/>
              <a:ext cx="1382040" cy="1725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В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текстильно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ромыш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енно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 txBox="1"/>
            <p:nvPr/>
          </p:nvSpPr>
          <p:spPr>
            <a:xfrm>
              <a:off x="5621760" y="4087440"/>
              <a:ext cx="1380960" cy="1725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В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медицин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7233120" y="4087440"/>
              <a:ext cx="1382040" cy="1725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В наук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5" name="Picture 25" descr="Картинка 47 из 60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336560" y="1519200"/>
              <a:ext cx="753840" cy="1636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nsolas"/>
              </a:rPr>
              <a:t>Наглядное применение хром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57" name="Picture 13" descr="Картинка 2 из 16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292640"/>
            <a:ext cx="2190600" cy="21906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9" descr="1195932873_05_hrom_"/>
          <p:cNvPicPr/>
          <p:nvPr/>
        </p:nvPicPr>
        <p:blipFill>
          <a:blip r:embed="rId3"/>
          <a:stretch/>
        </p:blipFill>
        <p:spPr>
          <a:xfrm>
            <a:off x="4700520" y="1600200"/>
            <a:ext cx="3933720" cy="21906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5" descr="Картинка 9 из 168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3640" y="4221000"/>
            <a:ext cx="1360440" cy="21942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7" descr="Картинка 24 из 168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1413000"/>
            <a:ext cx="2266920" cy="2232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9" descr="Картинка 59 из 168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8360" y="2781360"/>
            <a:ext cx="1577880" cy="8586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1" descr="Картинка 72 из 168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195640" y="1341360"/>
            <a:ext cx="1627200" cy="2232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3" descr="Картинка 101 из 168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68360" y="1341360"/>
            <a:ext cx="1584360" cy="12668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5" descr="Картинка 119 из 1685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859280" y="2565360"/>
            <a:ext cx="1511280" cy="14191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7" descr="i?id=162422227&amp;tov=5"/>
          <p:cNvPicPr/>
          <p:nvPr/>
        </p:nvPicPr>
        <p:blipFill>
          <a:blip r:embed="rId16"/>
          <a:stretch/>
        </p:blipFill>
        <p:spPr>
          <a:xfrm>
            <a:off x="3924360" y="1341360"/>
            <a:ext cx="1674720" cy="12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287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287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287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287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287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4287"/>
                            </p:stCondLst>
                            <p:childTnLst>
                              <p:par>
                                <p:cTn id="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6286"/>
                            </p:stCondLst>
                            <p:childTnLst>
                              <p:par>
                                <p:cTn id="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8287"/>
                            </p:stCondLst>
                            <p:childTnLst>
                              <p:par>
                                <p:cTn id="1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В чистом виде хром весьма токсичен — металлическая пыль Cr раздражает ткани легких, соединения хрома (III) вызывают дерматиты. Соединения хрома (VI) приводят к разным заболеваниям человека, в том числе и онкологическим.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nsolas"/>
              </a:rPr>
              <a:t>Биологические свойства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ром – важный биогенный элемент, непременно входящий в состав тканей растений, животных и человека. Среднее содержание этого элемента в растениях – 0,0005 %, причем практически весь он накапливается в корнях (92-95 %), остальная доля содержится в листьях. Высшие растения не переносят концентрации этого металла выше 3∙10-4 моль/л. У животных содержание хрома составляет от десятитысячных до десятимиллионных долей процента. Зато в планктоне коэффициент накопления хрома поразителен — 10 000-26 000. Во взрослом человеческом организме содержание Cr колеблется от 6 до 12 мг. Причем достаточно точно физиологическая потребность в хроме для человека не установлена. Она во многом зависит от рациона – при употреблении пищи с высоким содержанием сахара, потребность организма в хроме возрастает. Принято считать, что человеку требуется в сутки примерно 20–300 мкг этого элемента. Как и другие биогенные элементы, хром способен накапливаться в тканях организма, особенно в волосах. Именно в них содержание хрома указывает на степень обеспеченности организма этим металлом. К сожалению, с возрастом «запасы» хрома в тканях истощаются, исключением являются легкие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nsolas"/>
              </a:rPr>
              <a:t>Роль хрома в живых организмах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99680" y="1785960"/>
            <a:ext cx="547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Хром — один из биогенных элементов, постоянно входит в состав тканей растений и животных. У животных хром участвует в обмене липидов, белков (входит в состав фермента трипсина), углеводов. Снижение содержания хрома в пище и крови приводит к уменьшению скорости роста, увеличению холестерина в крови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В конце 1950-х гг. два исследователя, Шварц и Мерц, сообщили, что у крыс, которые были на рационе, дефицитном по хрому, развивалась непереносимость сахара; при добавлении же хрома в рацион их состояние нормализовалось. Это было первым подтверждением, что хром необходим животным для нормальной жизни. С тех пор исследователи поняли, что хром играет такую же роль и для здоровья человека.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indent="5349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613800" y="141300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ажные фак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6" descr="Картинка 15 из 660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952640"/>
            <a:ext cx="2771640" cy="27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"/>
                            </p:stCondLst>
                            <p:childTnLst>
                              <p:par>
                                <p:cTn id="2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10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6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10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857160" y="785880"/>
            <a:ext cx="77724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Основной источник поступления хрома в организм животных и человека — пища.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ченые установили, что в растительной пище концентрация хрома значительно ниже, чем в животной. Наиболее богаты хромом пивные дрожжи, мясо, печень, бобовые и цельное необработанное зерно. Снижение содержания этого металла в пище и крови приводит к уменьшению скорости роста, увеличению холестерина в крови, снижению чувствительности периферийных тканей к инсулину (диабетоподобное состояние). Кроме того, возрастает риск развития атеросклероза и нарушения высшей нервной деятельност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nsolas"/>
              </a:rPr>
              <a:t>Пищевые источники хром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68360" y="61657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пшеничные ростки, печень, мясо, сыр, бобы, горох, цельное зерно, черный перец, мелисса, пивные дрожжи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6" name="Picture 5" descr="Картинка 56 из 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284640"/>
            <a:ext cx="2232000" cy="1116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103242_1"/>
          <p:cNvPicPr/>
          <p:nvPr/>
        </p:nvPicPr>
        <p:blipFill>
          <a:blip r:embed="rId3"/>
          <a:stretch/>
        </p:blipFill>
        <p:spPr>
          <a:xfrm>
            <a:off x="539640" y="126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9" descr="Картинка 2 из 17214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59280" y="1268280"/>
            <a:ext cx="2862000" cy="18003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1" descr="Картинка 29 из 136286"/>
          <p:cNvPicPr/>
          <p:nvPr/>
        </p:nvPicPr>
        <p:blipFill>
          <a:blip r:embed="rId6"/>
          <a:stretch/>
        </p:blipFill>
        <p:spPr>
          <a:xfrm>
            <a:off x="6138720" y="1268280"/>
            <a:ext cx="2536920" cy="1808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3" descr="Картинка 3 из 18556"/>
          <p:cNvPicPr/>
          <p:nvPr/>
        </p:nvPicPr>
        <p:blipFill>
          <a:blip r:embed="rId7"/>
          <a:stretch/>
        </p:blipFill>
        <p:spPr>
          <a:xfrm>
            <a:off x="2987640" y="3357720"/>
            <a:ext cx="2376360" cy="1780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7" descr="Картинка 11 из 11421"/>
          <p:cNvPicPr/>
          <p:nvPr/>
        </p:nvPicPr>
        <p:blipFill>
          <a:blip r:embed="rId8"/>
          <a:stretch/>
        </p:blipFill>
        <p:spPr>
          <a:xfrm>
            <a:off x="611280" y="4559400"/>
            <a:ext cx="1728720" cy="15350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Картинка 5 из 426"/>
          <p:cNvPicPr/>
          <p:nvPr/>
        </p:nvPicPr>
        <p:blipFill>
          <a:blip r:embed="rId9"/>
          <a:stretch/>
        </p:blipFill>
        <p:spPr>
          <a:xfrm>
            <a:off x="6156360" y="33577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5" descr="Картинка 4 из 80716"/>
          <p:cNvPicPr/>
          <p:nvPr/>
        </p:nvPicPr>
        <p:blipFill>
          <a:blip r:embed="rId10"/>
          <a:stretch/>
        </p:blipFill>
        <p:spPr>
          <a:xfrm>
            <a:off x="4427640" y="4454640"/>
            <a:ext cx="2232000" cy="16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 rot="216600">
            <a:off x="91404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Наиболее ядовитым является оксид хрома (VI) CrO3, он относится к I классу опасности. Смертельная доза для человека (перорально) 0,6 г. Этиловый спирт при соприкосновении со свежеприготовленным CrO3 воспламеняется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 rot="21243000">
            <a:off x="857160" y="12855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orbel"/>
              </a:rPr>
              <a:t>Самая распространенная марка нержавеющей стали содержит 18 % Cr, 8 % Ni, около 0,1 % C. Она великолепно противостоит коррозии и окислению, сохраняют прочность при высоких температурах. Именно из такой стали изготовлены листы, использовавшиеся в строительстве скульптурной группы В.И. Мухиной «Рабочий и колхозница»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914400" y="999720"/>
            <a:ext cx="7772400" cy="53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Corbel"/>
              </a:rPr>
              <a:t>Особую нишу хром занял в полиграфии. В 1839 году было установлено, что бумага, пропитанная бихроматом натрия, после освещения ярким светом становится вдруг коричневой. Затем выяснилось, что бихроматные покрытия на бумаге после засвечивания не растворяются в воде, а, будучи смоченными, приобретают синеватый оттенок. Этим свойством воспользовались полиграфисты. Нужный рисунок фотографировали на пластинку с коллоидным покрытием, содержащим бихромат. Засвеченные места при промывке не растворялись, а не засвеченные растворялись, и на пластине оставался рисунок, с которого можно было печатать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Rectangle 2" descr=""/>
          <p:cNvPicPr/>
          <p:nvPr/>
        </p:nvPicPr>
        <p:blipFill>
          <a:blip r:embed="rId1"/>
          <a:stretch/>
        </p:blipFill>
        <p:spPr>
          <a:xfrm>
            <a:off x="450720" y="658800"/>
            <a:ext cx="8010720" cy="191304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1116000" y="2637000"/>
            <a:ext cx="6656400" cy="300168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orbel"/>
              </a:rPr>
              <a:t>Элемент № 24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Corbel"/>
              </a:rPr>
              <a:t>ХРОМ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nsolas"/>
              </a:rPr>
              <a:t>Функции хрома в жизни челове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57176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Основная роль хрома в организме - это регуляция сахара в крови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Хром работает вместе с инсулином по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перемещению сахара из крови в ткани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организма для использования или сох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ранения. Этот микроэлемент настолько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важен для переносимости сахара, что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сильная его недостаточность приводит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к развитию диабетоподобного заболевания</a:t>
            </a:r>
            <a:r>
              <a:rPr b="1" lang="ru-RU" sz="16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Уровень хрома снижается при дет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-                 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ском диабете, при коронарном арте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риальном заболевании (склерозиро</a:t>
            </a: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Corbel"/>
              </a:rPr>
              <a:t>вании артерий, ведущим к сердцу).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rbel"/>
              </a:rPr>
              <a:t>Хром необходим для нормального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rbel"/>
              </a:rPr>
              <a:t>метаболизма жиров («сжигания жиров»)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rbel"/>
              </a:rPr>
              <a:t>в организме и его недостаток однозначно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4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orbel"/>
              </a:rPr>
              <a:t>ведет к излишнему весу, ожирению.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 advTm="20000">
    <p:strips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2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nsolas"/>
              </a:rPr>
              <a:t>Месторождения хром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 земной коре хрома довольно много – 0,02%. Хромовая руда носит название хромитов или хромистого железняка (потому, что почти всегда содержит и железо).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Наша страна обладает огромными запасами хромитов. Одно из самых больших месторождений находится в Казахстане, в районе Актюбинска; оно открыто в 1936 г. Значительные запасы хромовых руд есть и на Урале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Большими запасами хромитов располагают Куба, Югославия, многие страны Азии и Африки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91" name="Picture 5" descr="Картинка 14 из 22"/>
          <p:cNvPicPr/>
          <p:nvPr/>
        </p:nvPicPr>
        <p:blipFill>
          <a:blip r:embed="rId1"/>
          <a:stretch/>
        </p:blipFill>
        <p:spPr>
          <a:xfrm>
            <a:off x="4500720" y="3860640"/>
            <a:ext cx="4319280" cy="25974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7" descr="Картинка 2 из 91"/>
          <p:cNvPicPr/>
          <p:nvPr/>
        </p:nvPicPr>
        <p:blipFill>
          <a:blip r:embed="rId2"/>
          <a:stretch/>
        </p:blipFill>
        <p:spPr>
          <a:xfrm>
            <a:off x="322200" y="3860640"/>
            <a:ext cx="3889440" cy="25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620"/>
                            </p:stCondLst>
                            <p:childTnLst>
                              <p:par>
                                <p:cTn id="3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620"/>
                            </p:stCondLst>
                            <p:childTnLst>
                              <p:par>
                                <p:cTn id="3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620"/>
                            </p:stCondLst>
                            <p:childTnLst>
                              <p:par>
                                <p:cTn id="3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5000" spc="-1" strike="noStrike">
                <a:solidFill>
                  <a:srgbClr val="ffffff"/>
                </a:solidFill>
                <a:latin typeface="Corbel"/>
              </a:rPr>
              <a:t>СПАСИБО 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ru-RU" sz="5000" spc="-1" strike="noStrike">
                <a:solidFill>
                  <a:srgbClr val="ffffff"/>
                </a:solidFill>
                <a:latin typeface="Corbel"/>
              </a:rPr>
              <a:t>ЗА  ВНИМАНИЕ</a:t>
            </a:r>
            <a:endParaRPr b="0" lang="en-US" sz="5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advTm="4000">
    <p:cover dir="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9" descr="tab_mendeleeva"/>
          <p:cNvPicPr/>
          <p:nvPr/>
        </p:nvPicPr>
        <p:blipFill>
          <a:blip r:embed="rId1"/>
          <a:stretch/>
        </p:blipFill>
        <p:spPr>
          <a:xfrm>
            <a:off x="457200" y="604800"/>
            <a:ext cx="8435880" cy="56484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6"/>
          <p:cNvSpPr/>
          <p:nvPr/>
        </p:nvSpPr>
        <p:spPr>
          <a:xfrm>
            <a:off x="3995640" y="2349360"/>
            <a:ext cx="647640" cy="43200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14" descr=""/>
          <p:cNvPicPr/>
          <p:nvPr/>
        </p:nvPicPr>
        <p:blipFill>
          <a:blip r:embed="rId2"/>
          <a:stretch/>
        </p:blipFill>
        <p:spPr>
          <a:xfrm>
            <a:off x="3995640" y="2349360"/>
            <a:ext cx="647640" cy="3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92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192" fill="hold"/>
                                        <p:tgtEl>
                                          <p:spTgt spid="5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192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192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0" dur="3000" fill="hold"/>
                                        <p:tgtEl>
                                          <p:spTgt spid="5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            </a:t>
            </a:r>
            <a:r>
              <a:rPr b="0" lang="ru-RU" sz="4000" spc="-1" strike="noStrike">
                <a:solidFill>
                  <a:srgbClr val="ffff00"/>
                </a:solidFill>
                <a:latin typeface="Consolas"/>
              </a:rPr>
              <a:t>ХРО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4360" y="220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Хром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(лат. Cromium), Cr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химический элемент VI группы периодической системы Менделеева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атомный номер 24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атомная масса 51,996;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еталл голубовато-стального цвета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7" name="Picture 6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1942920" cy="117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3000" fill="hold"/>
                                        <p:tgtEl>
                                          <p:spTgt spid="5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nsolas"/>
              </a:rPr>
              <a:t>История открыт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9" name="Picture 92" descr="Chrom_1[1]"/>
          <p:cNvPicPr/>
          <p:nvPr/>
        </p:nvPicPr>
        <p:blipFill>
          <a:blip r:embed="rId1"/>
          <a:stretch/>
        </p:blipFill>
        <p:spPr>
          <a:xfrm>
            <a:off x="250920" y="2492280"/>
            <a:ext cx="3457440" cy="25876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067280" y="1341000"/>
            <a:ext cx="4897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В 1797 г. французский химик Л. Вокелен впервые исследовал красноватый, тяжелый минерал крокоизит, попавший в его руки из далекой Сибири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    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Крокоизит, чаще называемый крокоитом (от греческого "крокос" - шафран), -редкий минерал, найденный на Урале в 40-х года XVIII в. и описанный М. В. Ломоносовым. Затем он был найден в Сибири петербургским профессором химии И. Леманом в 1762 г. От него попал к Вокелену, который открыл в сибирском минерале соединение нового элемента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    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Выделить этот элемент в чистом виде он не смог. Пораженный разнообразием окрасок, образуемых разными соединениями вновь открытого элемента, Вокелен назвал его хромом (от греческого слова "хрома" - цвет, краска). В сравнительно чистом виде новый элемент был выделен в 1799 г. Ф. Тассером. Он представлял собой серо-стальной металл с серебристыми блестками в изломе, тугоплавкий (температура плавления 1800° С), не окисляющийся при обычных условиях, с плотностью, почти равной плотности железа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-90360" y="2444760"/>
            <a:ext cx="876240" cy="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 rot="471600">
            <a:off x="790560" y="108036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rbel"/>
              </a:rPr>
              <a:t>Хром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— один из биогенных элементов, постоянно входит в состав тканей растений и животных. У животных хром участвует в обмене липидов, белков (входит в состав фермента трипсина), углеводов. Снижение содержания хрома в пище и крови приводит к уменьшению скорости роста, увеличению холестерина в кров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785880" y="57132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58d01"/>
                </a:solidFill>
                <a:latin typeface="Corbel"/>
              </a:rPr>
              <a:t>В земной коре хрома довольно много – 0,02%. Хромовая руда носит название хромитов или хромистого железняка (потому, что почти всегда содержит и железо). Наша страна обладает огромными запасами хромитов. Одно из самых больших месторождений находится в Казахстане, в районе Актюбинска; оно открыто в 1936 г. Значительные запасы хромовых руд есть и на Урале. Большими запасами хромитов располагают Куба, Югославия, многие страны Азии и Африк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642960" y="857160"/>
            <a:ext cx="6508800" cy="493560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 fontScale="92000"/>
          </a:bodyPr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rbel"/>
              </a:rPr>
              <a:t>Физические свойства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Хром — твердый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лубовато-белый тугоплавкий метал. Температура плавления 1890°С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а воздухе покрывается оксидной пленкой, которая предохраняет его от дальнейшего окисления. Благодаря этому свойству хром является одним из самых коррозион-ностойких металлов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nsolas"/>
              </a:rPr>
              <a:t>Применение хром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6" name="Text Box 24"/>
          <p:cNvSpPr/>
          <p:nvPr/>
        </p:nvSpPr>
        <p:spPr>
          <a:xfrm>
            <a:off x="357120" y="1428840"/>
            <a:ext cx="8569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хрома основано на его жаропрочности, твердости и устойчивости против корроз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е всего хрома применяют для выплавки хромистых сталей. Значительное количество хрома идет на декоративные коррозионно-стойкие покрыт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ирокое применение получил порошковый хром в производстве металлокерамических изделий и материалов для сварочных электродов. Хром в виде иона Cr3+ - примесь в рубине, который используется как драгоценный камень и лазерный матери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единениями хрома протравливают ткани при краше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смеси хромита и магнезита изготовляют хромомагнезитовые огнеупорные издел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0:06:07Z</dcterms:created>
  <dc:creator>artnik</dc:creator>
  <dc:description/>
  <dc:language>en-US</dc:language>
  <cp:lastModifiedBy>noutbook</cp:lastModifiedBy>
  <dcterms:modified xsi:type="dcterms:W3CDTF">2011-11-24T17:03:45Z</dcterms:modified>
  <cp:revision>54</cp:revision>
  <dc:subject/>
  <dc:title>Элемент хр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7000000000001024140</vt:lpwstr>
  </property>
</Properties>
</file>